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343-A6B4-4D47-9652-3ACE6450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DF2-44E9-46BA-8204-4E0A9F08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E039A-DF71-49D3-8E64-281FF72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3C5D-9456-43A8-AFB2-1E986751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7FA8C-7091-489B-BB71-73B34544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64512-EB37-40D4-AD43-8B67AA3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32BAD-8ABB-4B1B-97D2-4CFA6C4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9D319-67AF-4A03-AFAE-429FE82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B78C5-9A35-47E6-8D71-522C25C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E55B8-FEF9-4D10-85DC-631CA29D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CE4B8-E1B9-436A-B49D-66452BD8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DD606-CC34-41BE-9CA8-7D800F86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3E7-0E53-4C11-8DCB-13176015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0C25C-5855-4ACA-9149-BB4FF09D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28285-46ED-41A3-8022-36DFC074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84E9A-F850-48C9-BD8A-A9C109B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1FFB5-A0DF-4BD1-85B4-C20F55D9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E2BE7-7D5D-4291-BE77-997854BD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7B7BB-23CB-4F44-B68D-D7ACD7B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BC29-B95C-46E8-86CE-5CA611B1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A4ADE-9A4A-48C1-8231-CFB77CF7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D9CCA-7064-4289-9CFF-5ABEFDEB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F82A-893A-4E16-9DF3-4F35E78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12D-EA3F-4B7A-AB31-CE3C7BD0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6BF6B-BB19-45B6-A7D8-5F32A688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B52B2-CCF5-4F35-BFF2-3E08E374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2591-B822-49F8-93DC-591524B4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872A7-68C0-4162-9682-7B14CB3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A66B5-D553-4BBD-A5A3-0B10139E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419B2-EE44-4D65-8A0B-BDD9BC7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451A3-F7BA-4598-9612-B9264ABF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8ABE4-5C2A-42AB-8C60-6A0E137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EFE1-130F-49B7-BC6E-D5FD75E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CAD5B-91EA-4DB1-825E-A48AC1F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82B6-DC4A-4653-A4B9-335BB349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6308E-6AAC-4F54-93A2-A7EFEF3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04480-1A72-4E85-BC2B-D9A3BF3A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40B64-15EC-4537-85B7-0E27ADF2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85463-A171-4234-8788-860BD337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7F46F-AD5B-4FCC-BB77-3ECFB0E0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EF5EC-DFBA-4A84-B45A-4E89852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C9931-B681-438E-860A-FBC85E6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35976-6A56-4C27-A6A0-91A4B432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5FB0E-D5AF-4546-90AE-B326CEA3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97A2E-0655-487A-898A-A06E22F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5173-F2F5-43DC-A3BB-14ED6E9D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B7215-3F0A-42A8-B20C-7EEB5485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E7551-8CF0-40C3-BA99-6D49E6D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9C72A-C9B7-46E6-9C89-A9856B6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38620-A2FD-4E1B-A76E-6911A73F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293AA-4260-40B0-A93C-C4893EFA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ED2B5-CA5B-4D06-A7DA-EB5F3D1E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EE1CB-8A7B-4319-AFBE-57E97087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17B6C-2A35-49FC-B61D-8D287EB9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49942-CBE3-4406-86F7-9616D01A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46F5B-A099-41A4-888B-5950820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F835-BBE6-4C0D-8D50-98437253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A3D56-2F17-45D7-89C5-496E3449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6407F-C2A6-45CE-9A13-4126325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EA0F3-53D1-4A91-B13B-8FA9406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64EA9-FE0D-4C94-AD22-62A49FE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AC8A8-C116-464F-A564-327319DB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6EB8B-F607-4346-ABCC-0DDA2362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1CA38-E41E-4907-B6C6-B0890287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B263B-0D0E-4DE0-B4CA-9BF952CD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9E3C8-6693-4EBA-B1A4-F7D14B6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01C2C-418E-4D70-A933-16741E29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18F8-041A-4457-AA70-BAC08896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2C087-9CDB-483E-B843-86549724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B7BA0-6E85-457A-BC2F-403CF7C7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C2722-34B4-4D1B-8DEB-67B776AA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0E4C6-46BC-4DAB-877F-ECF8021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219E1-877B-4D7F-BBC7-CF1815C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E9C93-F381-43EA-BBD6-74BFF7D4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070B0-AB89-4464-8BF7-68E06CFA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ECF55-591B-4645-8FD0-48E1409B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30A04-6461-43F3-8CE3-588042B3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AE146-1497-498D-99D5-0196D054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8850-BA0D-4C15-BD81-5060374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6B8A4-F214-4B03-B09A-99895612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B2BB8-4E94-48E2-910D-58D477D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20133-6666-43AE-8B49-49E42FC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CD4E3-06ED-42F4-A582-210E597E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B6471-9C6D-4F86-BCB2-3970A086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3F25A-F7EF-4D09-86F8-1FDE8FB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83E5A-CE71-4C11-AE2C-D4C46D86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233E6-8219-4FA6-9666-7077B3E4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58537-CCCA-4C11-8973-24E3E82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41F73-9D14-4363-9CBF-7E93B5CC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C9E5-3E52-4823-836A-C49C24AB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CB910-C74F-48C1-B72C-E45D298F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9B60-0E58-4AE4-AEE7-40EE0FE4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CAD-353B-42C8-B76C-7C60D8BA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DCC0-675B-4B80-B6C4-2FDE563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2157-54C9-4FEF-958F-4992ADE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9DF1-C87A-4782-8B28-4A516D08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5D87-98C7-4133-84BA-A55504C9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4EC-CE50-42BD-8364-F4981CE3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77D8-F8A4-4341-9ADE-C1DADFBB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B80D-3142-41A2-8C01-FC9FC0BC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E51F-AEEB-4802-94C5-0D1A263E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C651-179B-4850-992E-240F700E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6940-9095-43EE-A304-E7259BBF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698-CF27-489F-8401-1361132C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D97A-3208-49A1-A417-34D1133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96E5-F516-49DF-9E23-883C6263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C6D9-8720-402D-B77B-CEB7C9F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EB12-1C61-4D64-BCBD-1680AD33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DD37-9555-422E-BFDE-6083D480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15D7-4064-4232-895C-B562E769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8B31-82C7-4F4E-8BF1-02143B3F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390B-4A7E-4B27-925F-D328D359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F365-79AD-446E-A8BE-7C06A28C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B708-1493-4969-A481-E1E0D0E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1A8-1F18-4F13-B574-EF302066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222F-FC22-4602-8957-5358A51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312F-83DB-4459-A3EE-F7F357B9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02D1-D233-4A98-A1F1-8300EEB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9353-134A-42B1-9807-5324D253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5F62-602B-4CB5-8F63-BB052E8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52FF-1CC7-4F15-9F92-B5A66894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B31C-D9D3-4CD9-AF65-55C4A216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B794-CECB-40A2-A7E5-BC4C36EC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B04B-F7C3-4C00-AE64-06644A60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8F02-5B01-4103-BB93-9B620E3A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1F1-2BA6-4150-AE4F-7645F614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E8B93-CC84-42FC-9D67-64F4FE0F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D3BA-F731-484E-A99E-195CC07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40B97-8B3D-4A23-9778-6E0BB94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2209-CEFB-49DD-8F4A-16771F0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8BD0-8D47-482F-95A7-567BD9A6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E240-4CAF-45A3-8F57-997E607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7555-B413-4E24-ADBF-8AB20EE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A1F26-362B-41F7-BBDF-E55739F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CD35-137E-40EA-848E-5C699A50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C9E1-F7AE-4117-A605-C3BFA4F0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D4A-0408-4C98-A071-69C2C7D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F774-4C94-4B5D-8BEA-8BFA7B7F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78BF-563B-4FA6-B474-E405B137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42409-FD94-45BC-B872-05A9BBAE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8BF4-86BA-4278-98F6-8717D5C1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13D4-715E-4DC1-BAFF-16FD6B86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768B5-3452-4579-85E3-A8446531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17A4-8693-4C20-8C1E-7680332D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AB77-146D-4AFD-A948-D1E4334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986C-F0A4-478F-BED8-8E87FD5D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F32C-1451-432B-8E3F-AC25B79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489-CF22-491D-B430-DF84B83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F930E-22F4-424A-A457-FDA99A4C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DECB-A895-420B-8B82-2C57D28B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3404D-409D-4915-94B5-8C693F19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DAA41-2F61-4B4B-8DD1-CBBBE92C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BC602-B455-4721-A2B1-2D828E7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24E66-F638-481B-8774-5B9182C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ED10-4106-45D7-8441-1DABA2EA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8E0B-257E-404E-8BCB-8D6F9CF4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8C7A-DA03-43AD-A107-A58AE886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B25D0-CBB9-49CD-B8A3-171AF4DB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175-5D85-46C2-8104-B6F85CB0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3EDC5-B6CC-4855-92A5-02497E42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762A0-7175-41C9-90E2-0A43612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492A-C007-4A06-A6E5-9A7E9AEF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A4183-DCE6-441A-ABA3-83C4DCE9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817A-BE88-4D13-BB5A-710AFA7A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306B8-65FB-4339-AB55-E70B9AB5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C835-73F3-4FD1-BBE6-3147272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39FB7-07F4-405A-88E2-4501BE8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8D263-9E12-428F-8177-D752D6F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8D5AF-A3DF-484C-A8E9-4B5A8FA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0FB-CA7D-4493-8408-A22E943A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C5DBA-FB0A-41E6-B358-A1A092D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3B73-774D-4C7E-B6CC-318287D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4E3F7-2641-41FA-9C99-3DE267A5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7D1C8-D86E-4BF4-93C2-B5921B1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570C-6162-46D5-A171-DA115D9B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823B-EC87-4089-A54E-BA3B760F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A3B07-313E-4ACC-8071-1D2A8188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276B9-E4DF-4C46-996A-EDF9C759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EC2EC-AB78-479E-AF38-D65C293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2D473-9997-4ACC-8CED-361B06EA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AA1B9-5938-4680-8670-299FEC85AC6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9A27E-D5E3-484A-8114-4A9101AE7A0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9C89E-C6CC-4058-BB99-E02886F0A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98ED4-CE0E-4839-9242-344B63EE4644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8DD51-88A7-48F8-B899-5CCDB00B4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493C4-42F4-4F9D-94BA-FCC21ED6742B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2A28D-207C-4461-8F88-B5078A3C2BA1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A70F0-5EF1-4F62-8BA1-DD1BFAB2C06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04367-3EDC-4527-A938-8F96EA92A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CEA48-364F-410A-8123-34FF265A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19330-B252-4362-BA55-8AEF20E8901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89E6B-404C-4E8A-8B62-38754683397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64B9C-2BB9-4A6E-9146-0337DB6B9C2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31428-4537-42F1-A372-7D9AA7EC488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81FB5-7679-43B0-A74C-51625758171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81CEF-9E9E-4BFC-B1A5-70426C902C5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D7CF3-F140-43FA-B2F0-70336D2F93AC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BE6E1-8990-4C73-B259-55B5C3425D3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07E45-B7F1-4034-B158-8F158F21A612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76680-A9D6-476F-BCB5-68C3396FB36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874D3-3745-4D99-BB76-B8081EB61965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653C8-E26B-4943-8E0D-3C9550E21D2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CBCB1-244A-4172-8A19-DFAF3FEAC62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2E5DE-BD31-4C04-AA1C-810BF0E2BFF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B6D6D-62C1-4BC8-AC04-F3C191EFA10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488A6-A2FB-4121-B113-111716CB091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022F9-744A-49C1-9685-A97D5093C493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04613-D04D-453A-A753-D5C2CB61A58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C6DE8-9306-422F-B3B6-7C9118EF7A4A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C1737-81DC-44E4-8B21-5258A3E05EF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Title 17" descr=""/>
          <p:cNvPicPr/>
          <p:nvPr/>
        </p:nvPicPr>
        <p:blipFill>
          <a:blip r:embed="rId2"/>
          <a:stretch/>
        </p:blipFill>
        <p:spPr>
          <a:xfrm>
            <a:off x="122400" y="122400"/>
            <a:ext cx="5003640" cy="1590480"/>
          </a:xfrm>
          <a:prstGeom prst="rect">
            <a:avLst/>
          </a:prstGeom>
          <a:ln w="0">
            <a:noFill/>
          </a:ln>
        </p:spPr>
      </p:pic>
      <p:pic>
        <p:nvPicPr>
          <p:cNvPr id="640" name="Vertical Text Placeholder 18" descr=""/>
          <p:cNvPicPr/>
          <p:nvPr/>
        </p:nvPicPr>
        <p:blipFill>
          <a:blip r:embed="rId3"/>
          <a:stretch/>
        </p:blipFill>
        <p:spPr>
          <a:xfrm>
            <a:off x="60480" y="1060560"/>
            <a:ext cx="9126360" cy="1682640"/>
          </a:xfrm>
          <a:prstGeom prst="rect">
            <a:avLst/>
          </a:prstGeom>
          <a:ln w="0">
            <a:noFill/>
          </a:ln>
        </p:spPr>
      </p:pic>
      <p:pic>
        <p:nvPicPr>
          <p:cNvPr id="641" name="TextBox 3" descr=""/>
          <p:cNvPicPr/>
          <p:nvPr/>
        </p:nvPicPr>
        <p:blipFill>
          <a:blip r:embed="rId4"/>
          <a:stretch/>
        </p:blipFill>
        <p:spPr>
          <a:xfrm>
            <a:off x="5334120" y="165240"/>
            <a:ext cx="3633840" cy="761760"/>
          </a:xfrm>
          <a:prstGeom prst="rect">
            <a:avLst/>
          </a:prstGeom>
          <a:ln w="0">
            <a:noFill/>
          </a:ln>
        </p:spPr>
      </p:pic>
      <p:sp>
        <p:nvSpPr>
          <p:cNvPr id="642" name="TextBox 4"/>
          <p:cNvSpPr/>
          <p:nvPr/>
        </p:nvSpPr>
        <p:spPr>
          <a:xfrm>
            <a:off x="274680" y="2717640"/>
            <a:ext cx="2862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74680" y="2255760"/>
          <a:ext cx="3136680" cy="4307040"/>
        </p:xfrm>
        <a:graphic>
          <a:graphicData uri="http://schemas.openxmlformats.org/drawingml/2006/table">
            <a:tbl>
              <a:tblPr/>
              <a:tblGrid>
                <a:gridCol w="1568520"/>
                <a:gridCol w="1568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What do I need to know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How will I find ou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many professional development sessions did teachers attend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Log of attenda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effective did the teachers feel the professional development was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Survey Questionn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many new vocabulary lessons were co-created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Notebook of lesson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often were the new lessons taugh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 lesson plan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What areas of the SCOS were addressed in these lessons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 lesson plan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Did the students perform higher on the Reading 180 literacy assessments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Pre and post Reading 180 assessmen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Did the students perform higher on the Reading 180 vocabulary assessmen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Pre and post Reading 180 assessmen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many students increased vocabulary words on the post lesson assessmen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Pre and post data for each uni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3564000" y="2255760"/>
          <a:ext cx="3598920" cy="4307040"/>
        </p:xfrm>
        <a:graphic>
          <a:graphicData uri="http://schemas.openxmlformats.org/drawingml/2006/table">
            <a:tbl>
              <a:tblPr/>
              <a:tblGrid>
                <a:gridCol w="1315800"/>
                <a:gridCol w="2283120"/>
              </a:tblGrid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Strategi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Resul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will attend PD on vocabulary developm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attended 7 sessions eac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will co-create useful and effective vocabulary less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Overall, teachers agreed PD did increase their knowledge and would use the information learned as part of their vocabulary instruction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New lessons were not created but were added to weekly lesson pla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will teach lessons consistently and daily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Since January 2012, vocabulary instruction was included in weekly lesson plans for ELA, Math, Science and Social Studi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Students literacy skills will increa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his will be measured at the end of this school year as post assessments have not be given as of ye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One unit pre and post test, 100% of students made gains in the post assessm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ime will be set aside daily for vocabulary instr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incorporated vocabulary instruction in their daily lesson pla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eee7e7"/>
                    </a:solidFill>
                  </a:tcPr>
                </a:tc>
              </a:tr>
            </a:tbl>
          </a:graphicData>
        </a:graphic>
      </p:graphicFrame>
      <p:pic>
        <p:nvPicPr>
          <p:cNvPr id="645" name="TextBox 19" descr=""/>
          <p:cNvPicPr/>
          <p:nvPr/>
        </p:nvPicPr>
        <p:blipFill>
          <a:blip r:embed="rId5"/>
          <a:stretch/>
        </p:blipFill>
        <p:spPr>
          <a:xfrm>
            <a:off x="7218360" y="2182680"/>
            <a:ext cx="1932120" cy="489456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20" descr=""/>
          <p:cNvPicPr/>
          <p:nvPr/>
        </p:nvPicPr>
        <p:blipFill>
          <a:blip r:embed="rId6"/>
          <a:stretch/>
        </p:blipFill>
        <p:spPr>
          <a:xfrm>
            <a:off x="85680" y="1925640"/>
            <a:ext cx="3529080" cy="793800"/>
          </a:xfrm>
          <a:prstGeom prst="rect">
            <a:avLst/>
          </a:prstGeom>
          <a:ln w="0">
            <a:noFill/>
          </a:ln>
        </p:spPr>
      </p:pic>
      <p:pic>
        <p:nvPicPr>
          <p:cNvPr id="647" name="TextBox 21" descr=""/>
          <p:cNvPicPr/>
          <p:nvPr/>
        </p:nvPicPr>
        <p:blipFill>
          <a:blip r:embed="rId7"/>
          <a:stretch/>
        </p:blipFill>
        <p:spPr>
          <a:xfrm>
            <a:off x="3371760" y="1925640"/>
            <a:ext cx="3998880" cy="7938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22" descr=""/>
          <p:cNvPicPr/>
          <p:nvPr/>
        </p:nvPicPr>
        <p:blipFill>
          <a:blip r:embed="rId8"/>
          <a:stretch/>
        </p:blipFill>
        <p:spPr>
          <a:xfrm>
            <a:off x="7218360" y="1925640"/>
            <a:ext cx="1932120" cy="793800"/>
          </a:xfrm>
          <a:prstGeom prst="rect">
            <a:avLst/>
          </a:prstGeom>
          <a:ln w="0">
            <a:noFill/>
          </a:ln>
        </p:spPr>
      </p:pic>
      <p:pic>
        <p:nvPicPr>
          <p:cNvPr id="649" name="TextBox 23" descr=""/>
          <p:cNvPicPr/>
          <p:nvPr/>
        </p:nvPicPr>
        <p:blipFill>
          <a:blip r:embed="rId9"/>
          <a:stretch/>
        </p:blipFill>
        <p:spPr>
          <a:xfrm>
            <a:off x="7218360" y="4956120"/>
            <a:ext cx="1932120" cy="3157560"/>
          </a:xfrm>
          <a:prstGeom prst="rect">
            <a:avLst/>
          </a:prstGeom>
          <a:ln w="0">
            <a:noFill/>
          </a:ln>
        </p:spPr>
      </p:pic>
      <p:pic>
        <p:nvPicPr>
          <p:cNvPr id="650" name="TextBox 14" descr=""/>
          <p:cNvPicPr/>
          <p:nvPr/>
        </p:nvPicPr>
        <p:blipFill>
          <a:blip r:embed="rId10"/>
          <a:stretch/>
        </p:blipFill>
        <p:spPr>
          <a:xfrm>
            <a:off x="7218360" y="4694400"/>
            <a:ext cx="19321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20:09:44Z</dcterms:created>
  <dc:creator>NELA Fellow</dc:creator>
  <dc:description/>
  <dc:language>en-US</dc:language>
  <cp:lastModifiedBy>williamss</cp:lastModifiedBy>
  <dcterms:modified xsi:type="dcterms:W3CDTF">2012-04-13T16:59:44Z</dcterms:modified>
  <cp:revision>10</cp:revision>
  <dc:subject/>
  <dc:title>Slide 1</dc:title>
</cp:coreProperties>
</file>